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98B-8DB8-4073-B264-8F4300CA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531-C182-4CB9-837B-C943D0DF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3E6-2E05-4B22-A9E7-BC3A868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DA3-CCEF-44F4-B0EB-DB5E6E54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8DA3-2C58-4B1D-AF39-78006D3F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E56B-2875-4612-8CBB-A4492B6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CF07-6F5B-458D-BC75-B15AF387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D48-63EF-4A05-B314-5B3BC09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3A2-A2EE-4F79-8DEE-01420FF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A469-906A-4BD4-BD6B-AE6FEBBB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97A-DBA9-412F-A414-D9B349A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B4B-7394-4E67-A57C-D5DF7B1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955-A73E-4E48-9A83-41B6556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4022-EABF-4099-B94B-E027777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D196-6ADD-4B62-9E11-A0101AFC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8DA-A7B4-4490-B258-0342353B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13E-CE1D-49EE-875D-67F4D4A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257-271A-406A-B66C-4A305DAA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F2B-E6A4-4751-AC01-A5A7B5B1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A1D-C475-4113-8D07-57BDEAE3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3C-B1A2-404B-9BBB-AA72286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AC5-E71E-474E-AA0B-3BA26A3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52C-41A1-4D83-AE01-5E0553E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784-CD94-4260-B3DB-EAB38C9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1880-42D2-4C80-8A6B-39E9E3108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CF1-10D5-4707-BE93-FF24CA90ACD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earing.com.au/" TargetMode="External"/><Relationship Id="rId2" Type="http://schemas.openxmlformats.org/officeDocument/2006/relationships/hyperlink" Target="http://www.hearing.com.au/" TargetMode="External"/><Relationship Id="rId3" Type="http://schemas.openxmlformats.org/officeDocument/2006/relationships/hyperlink" Target="http://www.hearing.com.a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ITING TEACHER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OLIC EDUCATION OFF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UPPOR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Comic Sans MS"/>
              </a:rPr>
              <a:t>TYPES OF HEARING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ori-neural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rmanent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amage to inner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anges from mild to profound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earing aids fi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uctive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sually 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amage to ear canal, middle ear or outer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anges from mild to moderate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earing aids are sometimes fitted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act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r hearing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earing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om.au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will provide you with the closest Australian Hearing cent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Or ring 13179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ahoma"/>
              </a:rPr>
              <a:t>Visiting Teacher For Vision Impair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Odette Bu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3995640" y="242100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ISION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isual condition must be defined as actual vision impairment and not a learning difficulty involving visual per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tance acuity less the 6/18 when measured with correction and both eyes open OR a visual field reduction to less than 20 degr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provide supporting documentation from a ophthalmologist, which must be written no more than 6 months prior to the referral d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GALLY BLIN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ho have a vision of 6/60 or less are eligible for funding under LNSLN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may be eligible for extra equipment eg Computer  or software for a computer, reading boards tape recorder. Curtains for the classroom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MVC-004S"/>
          <p:cNvPicPr/>
          <p:nvPr/>
        </p:nvPicPr>
        <p:blipFill>
          <a:blip r:embed="rId1"/>
          <a:srcRect l="34501" t="14000" r="39001" b="0"/>
          <a:stretch/>
        </p:blipFill>
        <p:spPr>
          <a:xfrm>
            <a:off x="2133720" y="2133720"/>
            <a:ext cx="1631880" cy="4190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6248520" y="2209680"/>
            <a:ext cx="2286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/36 vision is only being able to detect these letters on the chart at 6 met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 vision 6/6 is being able to detect this row of letters at 6 met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3580920" y="3276720"/>
            <a:ext cx="25909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429000" y="4876920"/>
            <a:ext cx="28195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295280" y="914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ual Acuity :Dista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urther assessment may also be recommended to Educational Vision Assessment Clinic at the Royal Eye and Ear Hospit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VAC team includes a consultant paediatriciac opthalmologist, an educational psychologist and the Education Officer of Vision Impair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Tahoma"/>
              </a:rPr>
              <a:t>Visiting Teachers for Chronic Health and Physical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onika Davies                  Julie Edward                 Neville Re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5940360" y="2637000"/>
            <a:ext cx="1440000" cy="1763640"/>
          </a:xfrm>
          <a:prstGeom prst="rect">
            <a:avLst/>
          </a:prstGeom>
          <a:ln w="0">
            <a:noFill/>
          </a:ln>
        </p:spPr>
      </p:pic>
      <p:pic>
        <p:nvPicPr>
          <p:cNvPr id="104" name="ucStaffDirectoryDetails_imgPhotograph" descr="photograph"/>
          <p:cNvPicPr/>
          <p:nvPr/>
        </p:nvPicPr>
        <p:blipFill>
          <a:blip r:embed="rId2"/>
          <a:stretch/>
        </p:blipFill>
        <p:spPr>
          <a:xfrm>
            <a:off x="1547640" y="263700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ucPersonHeader_imgPhoto" descr="photograph"/>
          <p:cNvPicPr/>
          <p:nvPr/>
        </p:nvPicPr>
        <p:blipFill>
          <a:blip r:embed="rId3"/>
          <a:stretch/>
        </p:blipFill>
        <p:spPr>
          <a:xfrm>
            <a:off x="3924360" y="270828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IM OF TH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ISITING TEACHER SERV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provide support to students with disabilities and impairments in Catholic schoo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upport may take place in a variety of 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te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stance with curriculum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ultancy to PSG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HRONIC HEALTH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mpairment must be confirmed by a medical specialist in writing at the time of the refer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udent has been absent from school for a block period in excess of four weeks or medical evidence supports this is likely to occ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udent’s ongoing absences from school exceed one third of total attendance time or medical evidence supports this is lik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mpairment is the primary cause of the student’s educational difficul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ool refusal is not a factor in the current abs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333399"/>
                </a:solidFill>
                <a:uFillTx/>
                <a:latin typeface="Comic Sans MS"/>
              </a:rPr>
              <a:t>Chronic Health Impair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ancer            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Leukaemia            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hronic Fatigue     1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rohn’s Disease   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eart Diseases    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Juvenile arthritis 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ypermobility     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Epilepsy               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Kidney Transplant 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ystic Fibrosis     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Kidney disease    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HYSICAL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airment must be confirmed by a medical specialist in writing at the time of refer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mpairment must have a significant impact on the student’s educational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333399"/>
                </a:solidFill>
                <a:uFillTx/>
                <a:latin typeface="Comic Sans MS"/>
              </a:rPr>
              <a:t>Physical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amples of Physical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erebral Palsy  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uscular Dystroph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pina Bifida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cquired Brain Injury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steo Imperfecta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Visiting Teachers of Hearing Impair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4149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Di Austin            Anne Casey            Colleen Dal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2195640" y="3141720"/>
            <a:ext cx="115236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ucStaffDirectoryDetails_imgPhotograph" descr="photograph"/>
          <p:cNvPicPr/>
          <p:nvPr/>
        </p:nvPicPr>
        <p:blipFill>
          <a:blip r:embed="rId2"/>
          <a:stretch/>
        </p:blipFill>
        <p:spPr>
          <a:xfrm>
            <a:off x="3708360" y="314172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120" name="ucStaffDirectoryDetails_imgPhotograph" descr="photograph"/>
          <p:cNvPicPr/>
          <p:nvPr/>
        </p:nvPicPr>
        <p:blipFill>
          <a:blip r:embed="rId3"/>
          <a:stretch/>
        </p:blipFill>
        <p:spPr>
          <a:xfrm>
            <a:off x="5508720" y="3068640"/>
            <a:ext cx="1174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EARING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udiogram of the student’s hearing must be provided with the referral form.  Free assessments can be provided by Australian Hearing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must be diagnosed with a permanent hearing loss - either sensori-neural, conductive or unilat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rvice provided will be dependent on the impact the hearing loss has on the student’s educational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08:39Z</dcterms:created>
  <dc:creator> </dc:creator>
  <dc:description/>
  <dc:language>en-US</dc:language>
  <cp:lastModifiedBy>JEdward</cp:lastModifiedBy>
  <dcterms:modified xsi:type="dcterms:W3CDTF">2011-07-20T04:35:37Z</dcterms:modified>
  <cp:revision>18</cp:revision>
  <dc:subject/>
  <dc:title>VISITING TEACHER SERVICE</dc:title>
</cp:coreProperties>
</file>